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A8B7-B012-4C3D-9B6B-02E83C285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glyph group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FF5-67B5-4F35-83DD-F4210376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4FE-D13A-4B69-8AAB-EDAFC7C1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434-6363-4227-9D77-9DC6BAA3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A52-A660-42A9-B2C5-EFAD0A7E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33C-B5B8-48A7-BCF5-8E66AD6C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AF5-06BE-4B0B-A795-F5C0C7B2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66F-DC4D-4BAB-BD05-C81D16D8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0B2-A8B9-45D8-BCA5-8A518CAA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8FA-16C7-40F8-9359-1A43FD67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2CAF-912B-4D19-85CC-A774CF9C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01A-95CA-4C0A-A904-294DCB10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30C-0EBA-4665-AF1D-20120CF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416F-AB41-43C3-B258-020A38425E7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Canoeing –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Up the Creek Without a Paddl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Learning Goal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haping questions for evaluation and instruction that focus on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ing how the questions in each section of the three part lesson might diff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efore/Part 1/Minds 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human number line from least to greatest quantity using the value on your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ebrief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ow did you decide where to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hat comparisons did you make to decide the value of your card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uring/Part 2/Acti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fraction between 3/2 and 1 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ain how you know it is between those fractions to your group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learning goal for this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fter/Part 3/Consolidation . . 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 Pai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velop the consolidation question for this  three part lesson on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otmocrac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se five dots and select several consolidation questions you might use with your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Journal Think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 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the consolidation questions you want to keep and use with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After/Part 3/Consolidaton: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riting Consolidation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st common questions – 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Journal wri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rite an analogy using a movie se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arallel tasks are like __________(movie) because _______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tonnerj</cp:lastModifiedBy>
  <dcterms:modified xsi:type="dcterms:W3CDTF">2010-08-17T18:45:36Z</dcterms:modified>
  <cp:revision>152</cp:revision>
  <dc:subject/>
  <dc:title>Slide 1</dc:title>
</cp:coreProperties>
</file>